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A4B-4F77-4DBE-95F8-B8107F6A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DF8-2818-4998-A181-8DE65972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4AD-89B5-41EF-96EF-E423BBFE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996-622C-411F-A962-E858FC24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A09-6524-44C8-BB55-E9099B7D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963-047D-495C-8EB2-39887A9A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18D-ECBD-469C-AFE3-C45C51B0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F26-9BF7-49F8-833B-AD8E47CA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7D4-7EBC-4EA0-9774-AD945FCB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C96-9C1A-42B0-896E-9867D288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CE5-83CB-4E25-B550-1587C23D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808-9270-4042-BA2E-90A1AE2C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4253-7162-4EB6-9DA6-873104C0B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Bradley Hand ITC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alibri"/>
              </a:rPr>
              <a:t>Camryn Hensc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3581280" y="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Po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7432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Greek City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t1.gstatic.com/images?q=tbn:ANd9GcT4SapwwTrDWajggccdRfANs8iViX1aVKhy7cIiOoYEIJJ8YZIy5eIMjRHW"/>
          <p:cNvPicPr/>
          <p:nvPr/>
        </p:nvPicPr>
        <p:blipFill>
          <a:blip r:embed="rId1"/>
          <a:stretch/>
        </p:blipFill>
        <p:spPr>
          <a:xfrm>
            <a:off x="1600200" y="1676520"/>
            <a:ext cx="52704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743200" y="457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676520" y="14479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study of wisdom and the right way to l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t0.gstatic.com/images?q=tbn:ANd9GcQbqRmf1s5lrYdciAqjaJufvkIVTL--Ca8bO4--dc-86rkHrf3CdT-egOau"/>
          <p:cNvPicPr/>
          <p:nvPr/>
        </p:nvPicPr>
        <p:blipFill>
          <a:blip r:embed="rId1"/>
          <a:stretch/>
        </p:blipFill>
        <p:spPr>
          <a:xfrm>
            <a:off x="1219320" y="2322360"/>
            <a:ext cx="60195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2971800" y="380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Penins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523880" y="13716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n area of land nearly surrounded by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"/>
          <p:cNvSpPr/>
          <p:nvPr/>
        </p:nvSpPr>
        <p:spPr>
          <a:xfrm>
            <a:off x="63360" y="-754200"/>
            <a:ext cx="210528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63360" y="-754200"/>
            <a:ext cx="210528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63360" y="-754200"/>
            <a:ext cx="210528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63360" y="-754200"/>
            <a:ext cx="210528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63360" y="-754200"/>
            <a:ext cx="210528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http://t0.gstatic.com/images?q=tbn:ANd9GcQtptkkT47QpgTRBWkRgStayZqtlP0W7O6qkOVLZtxFL_MKsZG_"/>
          <p:cNvPicPr/>
          <p:nvPr/>
        </p:nvPicPr>
        <p:blipFill>
          <a:blip r:embed="rId1"/>
          <a:stretch/>
        </p:blipFill>
        <p:spPr>
          <a:xfrm>
            <a:off x="1752480" y="2209680"/>
            <a:ext cx="52578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2209680" y="3808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Peloponnesian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2057400" y="1447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he war between Athens and Spa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t0.gstatic.com/images?q=tbn:ANd9GcT-ChFTQh-Z65EqRWisKvRHN92NGzPOWnrzaO4n5vlIvVTzbjop"/>
          <p:cNvPicPr/>
          <p:nvPr/>
        </p:nvPicPr>
        <p:blipFill>
          <a:blip r:embed="rId1"/>
          <a:stretch/>
        </p:blipFill>
        <p:spPr>
          <a:xfrm>
            <a:off x="1371600" y="2590920"/>
            <a:ext cx="63244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3124080" y="3808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Olig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1905120" y="11430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 kind of government that is run by a small group of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t2.gstatic.com/images?q=tbn:ANd9GcQYrifb5deXbCLCR7m2UO52jEC9URDItqFqLWZLC18yLyhQIsS6R-vd5yxzhQ"/>
          <p:cNvPicPr/>
          <p:nvPr/>
        </p:nvPicPr>
        <p:blipFill>
          <a:blip r:embed="rId1"/>
          <a:stretch/>
        </p:blipFill>
        <p:spPr>
          <a:xfrm>
            <a:off x="1828800" y="2935440"/>
            <a:ext cx="58672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3200400" y="4572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Har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1828800" y="12952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sheltered place along a coast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t0.gstatic.com/images?q=tbn:ANd9GcTDwoDXODnBPZSCIWy3ADu_-YrZSu7FuzJyzka6hB_FQeR1r7flZQ"/>
          <p:cNvPicPr/>
          <p:nvPr/>
        </p:nvPicPr>
        <p:blipFill>
          <a:blip r:embed="rId1"/>
          <a:stretch/>
        </p:blipFill>
        <p:spPr>
          <a:xfrm>
            <a:off x="1219320" y="2057400"/>
            <a:ext cx="71625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3.gstatic.com/images?q=tbn:ANd9GcTb-Y-B4JDpzvQ_p8NeDn1SpxAbsTSx8UOIYBmiG41RQ882VlJ3"/>
          <p:cNvPicPr/>
          <p:nvPr/>
        </p:nvPicPr>
        <p:blipFill>
          <a:blip r:embed="rId1"/>
          <a:stretch/>
        </p:blipFill>
        <p:spPr>
          <a:xfrm>
            <a:off x="838080" y="18288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t3.gstatic.com/images?q=tbn:ANd9GcRr_q7qKsuPK_8aOXrXMwQ0P6THg5bpZVB3g4ymYepJaa_qEu8RTg"/>
          <p:cNvPicPr/>
          <p:nvPr/>
        </p:nvPicPr>
        <p:blipFill>
          <a:blip r:embed="rId1"/>
          <a:stretch/>
        </p:blipFill>
        <p:spPr>
          <a:xfrm>
            <a:off x="1219320" y="1625760"/>
            <a:ext cx="716256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895480" y="38088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209680" y="1447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lawmaking place where people voted on issues that helped their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t2.gstatic.com/images?q=tbn:ANd9GcSroMekSJQT9mG1Rhx0FCm_0BK7eXVPTRTttrpI94saoDQLleDCzA"/>
          <p:cNvPicPr/>
          <p:nvPr/>
        </p:nvPicPr>
        <p:blipFill>
          <a:blip r:embed="rId1"/>
          <a:stretch/>
        </p:blipFill>
        <p:spPr>
          <a:xfrm>
            <a:off x="1447920" y="2666880"/>
            <a:ext cx="5715000" cy="39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3352680" y="4572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Citi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600200" y="1523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person who has certain rights and responsibilities to his or her coun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t2.gstatic.com/images?q=tbn:ANd9GcQzmzSttfWlzSrQIjPHZtZMYUL8VlET40mNAlbj2JJIlRQ0fp8T"/>
          <p:cNvPicPr/>
          <p:nvPr/>
        </p:nvPicPr>
        <p:blipFill>
          <a:blip r:embed="rId1"/>
          <a:stretch/>
        </p:blipFill>
        <p:spPr>
          <a:xfrm>
            <a:off x="1219320" y="2666880"/>
            <a:ext cx="6297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048120" y="3808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ol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600200" y="1523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group, of people who lived apart from Greece but kept economic ties with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t3.gstatic.com/images?q=tbn:ANd9GcQsYleIGENwjOXlkrzSloUaBqBlZVm4kn8AGx9RtZs_SaShd_0dVNsM_RR2"/>
          <p:cNvPicPr/>
          <p:nvPr/>
        </p:nvPicPr>
        <p:blipFill>
          <a:blip r:embed="rId1"/>
          <a:stretch/>
        </p:blipFill>
        <p:spPr>
          <a:xfrm>
            <a:off x="1523880" y="274320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590920" y="609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Democ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600200" y="18288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form of government where people vote to make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t1.gstatic.com/images?q=tbn:ANd9GcR0GKYeukOy-Gg_JuFQ-GlRr8BeQbDBT5HKlsnGOdVdgdAi3TFKlg"/>
          <p:cNvPicPr/>
          <p:nvPr/>
        </p:nvPicPr>
        <p:blipFill>
          <a:blip r:embed="rId1"/>
          <a:stretch/>
        </p:blipFill>
        <p:spPr>
          <a:xfrm>
            <a:off x="1295280" y="2743200"/>
            <a:ext cx="579132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505320" y="3049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J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981080" y="1143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hey hear evidence and make decisions in a court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t2.gstatic.com/images?q=tbn:ANd9GcT3DOKmD9W7FXk9iBsSAyxbVEY17hFEDLt-_X7ltmhYjBaEWcu1HKsnqfaD"/>
          <p:cNvPicPr/>
          <p:nvPr/>
        </p:nvPicPr>
        <p:blipFill>
          <a:blip r:embed="rId1"/>
          <a:stretch/>
        </p:blipFill>
        <p:spPr>
          <a:xfrm>
            <a:off x="990720" y="2057400"/>
            <a:ext cx="6557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3048120" y="3808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Mon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2514600" y="1295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Government headed by one ru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t1.gstatic.com/images?q=tbn:ANd9GcTAABwYwVZDQgcaVDtI1l_bPdN1i8PULHLj0Sf0g9Ghi0ZWgAJ04omGc901"/>
          <p:cNvPicPr/>
          <p:nvPr/>
        </p:nvPicPr>
        <p:blipFill>
          <a:blip r:embed="rId1"/>
          <a:stretch/>
        </p:blipFill>
        <p:spPr>
          <a:xfrm>
            <a:off x="609480" y="2209680"/>
            <a:ext cx="7174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1:31:31Z</dcterms:modified>
  <cp:revision>96</cp:revision>
  <dc:subject/>
  <dc:title>Ancient Greece</dc:title>
</cp:coreProperties>
</file>